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7389-5D51-4E64-B8D7-717CD15A74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0CE3-7584-4AE1-8617-F15A853D7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7E9C-DF72-4A13-995E-B5D94BDC6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5E46-3419-4B18-BE5A-42E9F179E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5EF4-B7F9-4E5F-BDF1-7DB13D79B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F7B2-2347-4FFD-8E26-9F0267810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F5A0-32C9-4FD3-B734-DE4FE6970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08D9-19DC-4A47-BA69-755884635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04D2-8C72-4757-832D-1E88F2C40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1AC3-DDF2-4737-B302-1A2073E7A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83E7-3F1F-4FA3-8A28-135460CE3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3C7D-B063-40C1-85E5-C12ABDAE6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9AA3-5AD0-4A72-8D91-3FBB02859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CFD0-F802-4478-99AF-26DE1F3C0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8C54-84FA-42B2-99B1-A2A38507F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E4A8-CF96-413C-A696-19644CB0D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BA2A-2AF4-46E1-A21E-C28D54298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58E37-7396-4BFB-9BDB-948A086DB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BCEF-7FCF-4FB5-A20B-3628FA77A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6F3A-5215-4335-B9DA-6CF5F4BD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DB38E-B8D6-430F-86AE-CACB28133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0CB8A-5EC3-4CF9-A839-626925CE1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A6454-8EB1-4B54-81C3-97560A391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60DA6-A6E3-4F79-8F85-F26831D2F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9BC9B-6194-4BE0-9EE8-62F7E7C50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D998C-DD44-44AE-BD53-B4CC73815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44C49-DDA6-4FEC-ACD5-A2BBB9F1E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61CE3-5214-46A8-95E0-6EA667C9B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4C7A5-9959-424C-B1B3-FF3F2249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3666-B554-4061-9F95-5E0B2986C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7EFBE-5FF1-4EDB-B332-802772C1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B1152-B21E-4A34-B6F3-174C98FEC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A6BFE-26F3-416C-BD30-FED9952D3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9BF4F-DD08-4C5C-BE87-505FA4E98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38637-66CF-4CCF-9491-641480C4D7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FDF76-7B4A-407B-BF56-5D9E8EDCF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83752-C753-4782-8B80-DC0599990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23020-8637-4AD9-B145-7EC76768E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62E65-B77B-4844-AFD8-26F6B80E3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897F-9C80-458C-B592-67D01842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EFEEF-B352-472A-9551-CBFB96168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9680E-5FDA-4150-BF90-E60D3D6EF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5FC89-6B87-4446-A697-A2666CF4D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4E5BF-7722-4173-85DD-2E821010C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0B9EB-2062-48CE-B727-B8946AA8C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A61A86-E95D-4100-B4B2-06BCF5039A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4637D-38DB-4E0C-B812-DB3BEF750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56A17C-A950-4D7B-9A4B-F9E3608B1A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CD776-3C96-4876-83E0-5D4D5BE97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4F29F-828D-41A6-854A-53B73A19B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6708-4616-43F8-93D4-651AFC3C8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40391-0E29-4CE8-9750-C6E94CA31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2231B-629E-4E10-AA09-FD517AD61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77CDE-E622-4D23-87C3-FAC612CF1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07E9E-B72A-48CE-B27B-FBE9DFE1F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BA8F0-6084-4A1F-916E-AC5FA356D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54648-141E-451F-940D-435536EFD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D2CDE9-8A6F-4C5C-980C-DA98F3157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C849C-BDDF-4149-9E22-5689306A67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D3BB39-6E4F-4168-8918-60CEF71681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FCED2-BF41-4708-AB33-84C0C69F1D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D7FC-C359-4235-AE31-812DFD050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14F3A-A772-4527-932A-CD826F89D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AF9BC-4227-44CF-8AA8-50085FC28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A0BF6-E0C4-45BF-981E-E6B0CCC9F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D828F-E043-4AE2-B907-158F8025E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57C07-C10D-49D9-9F62-476705ABA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CC188-9417-4A91-B841-E36DE0BF1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FC846-AF85-4AF2-8454-CE634FC03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7F3E5-CB54-408F-8CD2-F704E493E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808F2-4498-4B5F-8817-AE6C72745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65438-57CA-415A-A4A6-FCE95D2F00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4457B-1267-4957-83B9-9CC7AC2DA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93CF81-8BCE-46B1-90DF-EC485689B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EFA3B-3438-402B-AAD0-807FED4E2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89A6-4DF0-45F8-94A1-7A45B21DA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F3B6-F266-418B-ADAE-9E998F5C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E316-DC11-4BE2-B208-4E36B8C28674}"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B477-ACF0-4DB5-91F4-9A1C5EFB8D70}"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AE5F-E7B4-4E83-A629-424EBAAAB044}"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8AC4-3285-447B-9DDC-31F8E2275461}"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D026-D459-4675-9449-0F9B344071B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68"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0"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1"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2" name="Picture 6" descr="teachers_4.jpg"/>
          <p:cNvPicPr/>
          <p:nvPr/>
        </p:nvPicPr>
        <p:blipFill>
          <a:blip r:embed="rId1"/>
          <a:stretch/>
        </p:blipFill>
        <p:spPr>
          <a:xfrm>
            <a:off x="2219400" y="3133800"/>
            <a:ext cx="1535040" cy="1633320"/>
          </a:xfrm>
          <a:prstGeom prst="rect">
            <a:avLst/>
          </a:prstGeom>
          <a:ln w="0">
            <a:noFill/>
          </a:ln>
        </p:spPr>
      </p:pic>
      <p:pic>
        <p:nvPicPr>
          <p:cNvPr id="273" name="Picture 7" descr="scan_knight_sm.jpg"/>
          <p:cNvPicPr/>
          <p:nvPr/>
        </p:nvPicPr>
        <p:blipFill>
          <a:blip r:embed="rId2"/>
          <a:stretch/>
        </p:blipFill>
        <p:spPr>
          <a:xfrm>
            <a:off x="4529160" y="2700360"/>
            <a:ext cx="2152800" cy="1859040"/>
          </a:xfrm>
          <a:prstGeom prst="rect">
            <a:avLst/>
          </a:prstGeom>
          <a:ln w="0">
            <a:noFill/>
          </a:ln>
        </p:spPr>
      </p:pic>
      <p:pic>
        <p:nvPicPr>
          <p:cNvPr id="274"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6" name="Content Placeholder 6" descr=""/>
          <p:cNvPicPr/>
          <p:nvPr/>
        </p:nvPicPr>
        <p:blipFill>
          <a:blip r:embed="rId1"/>
          <a:stretch/>
        </p:blipFill>
        <p:spPr>
          <a:xfrm>
            <a:off x="480960" y="506520"/>
            <a:ext cx="8236080" cy="4241520"/>
          </a:xfrm>
          <a:prstGeom prst="rect">
            <a:avLst/>
          </a:prstGeom>
          <a:ln w="0">
            <a:noFill/>
          </a:ln>
        </p:spPr>
      </p:pic>
      <p:sp>
        <p:nvSpPr>
          <p:cNvPr id="277"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79" name="Content Placeholder 3" descr=""/>
          <p:cNvPicPr/>
          <p:nvPr/>
        </p:nvPicPr>
        <p:blipFill>
          <a:blip r:embed="rId1"/>
          <a:stretch/>
        </p:blipFill>
        <p:spPr>
          <a:xfrm>
            <a:off x="506520" y="523800"/>
            <a:ext cx="3943080" cy="4402080"/>
          </a:xfrm>
          <a:prstGeom prst="rect">
            <a:avLst/>
          </a:prstGeom>
          <a:ln w="0">
            <a:noFill/>
          </a:ln>
        </p:spPr>
      </p:pic>
      <p:sp>
        <p:nvSpPr>
          <p:cNvPr id="280"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2"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3"/>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4"/>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17T00:47:50Z</dcterms:modified>
  <cp:revision>157</cp:revision>
  <dc:subject/>
  <dc:title>Slide 1</dc:title>
</cp:coreProperties>
</file>